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10A3-7B35-4F01-981C-888D71D29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ve this slide up while you answer any questions (or until next speaker starts his/her talk) so people can copy down the UR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mention that Suzi is working on that last i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ly go over some of the main features.  Next slide has screensho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D892-EBF6-42F9-91D0-C6CD9DE55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3E31-5C52-45F4-A42E-731A44B3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3BBC-CC02-4C0F-8E17-448401021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1283-0309-4D69-80BF-43DD3B305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68B3-446F-4B49-8527-2380CD05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C178-33D8-44DD-86AC-4A4BD0CB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4F95-C956-4017-811A-BBF149BC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30AB-BC22-49B3-A15E-31FD472C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E88F-9520-4A0A-BD0B-BCCE0E4B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9B51-1F5C-4BCD-9F03-03C4095B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9F8E-6FC7-4F51-BAA1-78F0FEC5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26EB-F95F-49DB-BE88-D2EE7660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3B0E-07D2-472D-AB9E-26B14D8589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.fruitfly.org/annot/apollo/install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pollo Progress Re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040" y="5410080"/>
            <a:ext cx="74674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MOD Meeting, Berkel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ptember 15, 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67183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33520" y="441936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de available at SourceForge: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http://sourceforge.net/projects/gmod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ller available at 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http://ww.fruitfly.org/annot/apollo/install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219320" y="609480"/>
            <a:ext cx="6718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ay 2003: Coming so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66"/>
                </a:solidFill>
                <a:latin typeface="Arial"/>
              </a:rPr>
              <a:t>Upgrade to JDK 1.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Handle non-gene annotations bett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mprove Jal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te gapped alignments for GAME (ciga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66"/>
                </a:solidFill>
                <a:latin typeface="Arial"/>
              </a:rPr>
              <a:t>Match/mismatch coloring sche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Get alignment sequences for Ensembl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Have sequences, don’t have ciga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ove memory us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mprove synteny 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Layer raw BLAST results over current reg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66"/>
                </a:solidFill>
                <a:latin typeface="Arial"/>
              </a:rPr>
              <a:t>Highlight matches to new sequ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ighlighting new sequenc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sequences (since last pipeline run) box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” date for each type can be specified in tiers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t pipeline databases might have different update d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 "Fly Sequence", "Community GB” …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"31-JAN-2003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 "BLASTX Similarity to Fly", "BLASTX Similarity to Fly” …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"31-MAY-2002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lignments for Jalview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full alignment of results (including gap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gars are a compact way to represent gapped alig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ATATAGGGATAT-----ATAGG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ATATA---ATATCCCCCATAGG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M 5  I 3 M 4 D 5 M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need to represent mismatches in cigars, just g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lignment display before and after cigar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828800" y="4191120"/>
            <a:ext cx="7086600" cy="2492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708516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OP/Apollo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P now integrated with Apol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 as standalone application or launch from Apol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ad/layer raw analysis resul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ST (all flavo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SC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gene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ing soon: BLAT (Josh Kamink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OP/Apollo GUI for BLAS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92468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pollo use/reus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48 downloads YT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93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2 Solar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2 Mac OS 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73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8 Generic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groups are adapting Apollo to their needs (e.g. writing new data adapt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Apollo Te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rkele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zanna Lewis, Nomi Harris, Mark Gibson, Sima Misra, (John Richter), (Colin Wie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ll the FlyBase curato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nger Institut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vek Iyer, (Steve Searle), (Michele Clam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G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vid Goodstein (adding regex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8T03:56:12Z</dcterms:created>
  <dc:creator>Nomi Harris</dc:creator>
  <dc:description/>
  <dc:language>en-US</dc:language>
  <cp:lastModifiedBy>Nomi Haris</cp:lastModifiedBy>
  <dcterms:modified xsi:type="dcterms:W3CDTF">2003-09-15T04:37:55Z</dcterms:modified>
  <cp:revision>310</cp:revision>
  <dc:subject/>
  <dc:title>Slide 1</dc:title>
</cp:coreProperties>
</file>